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6A2-C3B2-4028-928D-F967334E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E8D-0EA1-4C50-824F-D9AAE357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43D-BBFE-4B99-8077-AE5A7FF2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684-165A-4ED8-8B3A-EA79B629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F3FE-C3DA-4313-A883-946F831E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E890-A1ED-4945-8D7B-AF52DD4E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8703-11EB-4BD0-BEC1-AD2E9DEA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D5A5-F552-4197-A46E-D27DC347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94A8-7EF5-4D94-B3BD-D86DE989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C586-AA3E-4CD4-B6FE-0487A610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25F0-1D18-4C1E-9517-B596C844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154-EEED-4C4F-BFAB-DA3D7D4F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6581-607C-4F22-A970-A92AA466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B0A4-EE7D-4C26-ADB4-8D1FD560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B302-959C-4AF2-AD10-B2570105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5F29-BEBE-4CA8-93F6-E8D7A893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B212-DC41-4981-92C6-26A8485C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E7B-DA22-4358-AE4E-98A113F0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259-D0FD-499B-838D-014C219E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AAC-79C8-47A7-A3EF-14938488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B5E-E60D-4278-95C8-84ACE26B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357-4425-4DB0-8385-A42C0C49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32D-DA46-491B-878F-E03DA0F1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17A-5F97-4B29-BB1B-182257D7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AB43-0189-458B-909D-82622B3B5FA0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4AB2-5B6B-4081-985E-82BA31CF48AB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google.com.au/imgres?imgurl=http://www.compac-yacht.com/images/german_flag.jpg&amp;imgrefurl=http://www.compac-yacht.com/&amp;h=1075&amp;w=1400&amp;sz=125&amp;tbnid=q4jkxYpLhDAJ::&amp;tbnh=115&amp;tbnw=150&amp;prev=/images%3Fq%3Dgerman%2Bflag%2Bpictures&amp;hl=en&amp;usg=__EF0hp-yCPqG3PZyW0juExYhaJD4=&amp;sa=X&amp;oi=image_result&amp;resnum=2&amp;ct=image&amp;cd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w2incolor.com/britain/firefly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ww2incolor.com/german/nebelwerfer.html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ww2incolor.com/german-air-force/j88.html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ww2incolor.com/german-air-force/DB+601+A-1.html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www.ww2incolor.com/german-air-force/Ju+87+B+Stuka+-+Stab+I+Sturzkampfgeschwader+2+Immelman+-+1941.html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www.ww2incolor.com/britain/Briten+mit+erbeutetem+Kettenkrad.html" TargetMode="External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32000" y="3428640"/>
            <a:ext cx="6440400" cy="11523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Verdana"/>
              </a:rPr>
              <a:t>By Joel, Germanus, Mitch, Briana , Breeanne.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59280" y="692280"/>
            <a:ext cx="3168360" cy="22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war tim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59280" y="5157720"/>
            <a:ext cx="309528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2209320"/>
            <a:ext cx="8147160" cy="22482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Did you know that people migrated from different countries to go to war. Like Britain, Italy, France and Germany.    Maybe the Germans started it well maybe we should find out.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     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4653000"/>
            <a:ext cx="2016000" cy="1208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64000" y="4724280"/>
            <a:ext cx="172908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16000" y="1495440"/>
            <a:ext cx="6335640" cy="22269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What does war time mean? People came to Germany because of the war. People sacrificed there lives to serve there country.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59280" y="4437000"/>
            <a:ext cx="1656000" cy="993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http://www.compac-yacht.com/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365720"/>
            <a:ext cx="165564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47560" y="1600200"/>
            <a:ext cx="7989840" cy="12621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Some people were afraid that they would die so they left there country. But others stayed and fought for there live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63640" y="3805200"/>
            <a:ext cx="1871640" cy="1122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208764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Verdana"/>
              </a:rPr>
              <a:t>The one who started the war was Adolph Hitler the one who ruled the German sid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087640" cy="1252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http://www.compac-yacht.com/"/>
          <p:cNvPicPr/>
          <p:nvPr/>
        </p:nvPicPr>
        <p:blipFill>
          <a:blip r:embed="rId2"/>
          <a:stretch/>
        </p:blipFill>
        <p:spPr>
          <a:xfrm>
            <a:off x="1908000" y="3645000"/>
            <a:ext cx="215928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Tiger kill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68928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Nebelwerf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3978360"/>
            <a:ext cx="3306600" cy="287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Junkers 8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205000"/>
            <a:ext cx="284328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Checking Daimler-Benz DB 601 A-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43280" y="2205000"/>
            <a:ext cx="3313080" cy="1787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Ju 87 B2 Stuka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56360" y="4437000"/>
            <a:ext cx="2987640" cy="2421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British soldiers with captured Kettenkrad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2781360"/>
            <a:ext cx="2987640" cy="1652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FT 17"/>
          <p:cNvPicPr/>
          <p:nvPr/>
        </p:nvPicPr>
        <p:blipFill>
          <a:blip r:embed="rId13"/>
          <a:stretch/>
        </p:blipFill>
        <p:spPr>
          <a:xfrm>
            <a:off x="0" y="0"/>
            <a:ext cx="2771640" cy="218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Thunderbolt of BAF (Brazilian)"/>
          <p:cNvPicPr/>
          <p:nvPr/>
        </p:nvPicPr>
        <p:blipFill>
          <a:blip r:embed="rId14"/>
          <a:stretch/>
        </p:blipFill>
        <p:spPr>
          <a:xfrm>
            <a:off x="2843280" y="0"/>
            <a:ext cx="3313080" cy="2163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German Tank"/>
          <p:cNvPicPr/>
          <p:nvPr/>
        </p:nvPicPr>
        <p:blipFill>
          <a:blip r:embed="rId15"/>
          <a:stretch/>
        </p:blipFill>
        <p:spPr>
          <a:xfrm>
            <a:off x="6156360" y="0"/>
            <a:ext cx="2987640" cy="273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0:25:26Z</dcterms:created>
  <dc:creator>room17</dc:creator>
  <dc:description/>
  <dc:language>en-US</dc:language>
  <cp:lastModifiedBy>room17</cp:lastModifiedBy>
  <dcterms:modified xsi:type="dcterms:W3CDTF">2008-09-07T23:58:58Z</dcterms:modified>
  <cp:revision>6</cp:revision>
  <dc:subject/>
  <dc:title>Slide 1</dc:title>
</cp:coreProperties>
</file>